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77E9-9C83-4A86-BB4F-CB8A47D9B43B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7B64-44A5-4E22-8933-CC2264D9BCA6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39F5-911D-4A5A-A42F-67C728F9E2BB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0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9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4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3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312120" indent="-3121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312120" indent="-3121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312120" indent="-3121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7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6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1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1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59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7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5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6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1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geopreservation.org/index.jsp;jsessionid=7nV0TZhFPJc4b22zWbjn1J9p3LK9RR81fHhpGgM9gzJWYlQJJ690!480336224" TargetMode="External"/><Relationship Id="rId2" Type="http://schemas.openxmlformats.org/officeDocument/2006/relationships/hyperlink" Target="http://geopreservation.org/index.jsp;jsessionid=7nV0TZhFPJc4b22zWbjn1J9p3LK9RR81fHhpGgM9gzJWYlQJJ690!480336224" TargetMode="External"/><Relationship Id="rId3" Type="http://schemas.openxmlformats.org/officeDocument/2006/relationships/hyperlink" Target="http://geopreservation.org/index.jsp;jsessionid=7nV0TZhFPJc4b22zWbjn1J9p3LK9RR81fHhpGgM9gzJWYlQJJ690!480336224" TargetMode="External"/><Relationship Id="rId4" Type="http://schemas.openxmlformats.org/officeDocument/2006/relationships/hyperlink" Target="http://www.duraspace.org/" TargetMode="External"/><Relationship Id="rId5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arthdata.nasa.gov/sites/default/files/field/document/NASA_ESD_Preservation_Spec.pdf" TargetMode="Externa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Preservation Strategies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Framing The Approach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454644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ncy Hoebelheinrich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Knowledge Motifs LLC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hoebel@kmotifs.com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0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2" name="Rectangle 2"/>
          <p:cNvSpPr/>
          <p:nvPr/>
        </p:nvSpPr>
        <p:spPr>
          <a:xfrm>
            <a:off x="7264440" y="4952880"/>
            <a:ext cx="5308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ata Management Workshop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American Geophysical Union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San Francisco, CA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Tuesday, December 6, 2011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" descr=""/>
          <p:cNvPicPr/>
          <p:nvPr/>
        </p:nvPicPr>
        <p:blipFill>
          <a:blip r:embed="rId1"/>
          <a:srcRect l="10000" t="15078" r="11252" b="11014"/>
          <a:stretch/>
        </p:blipFill>
        <p:spPr>
          <a:xfrm>
            <a:off x="482760" y="1905120"/>
            <a:ext cx="11887200" cy="754380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71680" y="1219320"/>
            <a:ext cx="7912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Example Data Maturity Index  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How can I (the scientist) help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71320" y="2323800"/>
            <a:ext cx="11861640" cy="320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1" name=""/>
          <p:cNvSpPr/>
          <p:nvPr/>
        </p:nvSpPr>
        <p:spPr>
          <a:xfrm>
            <a:off x="635040" y="2209680"/>
            <a:ext cx="11506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Helvetica Neue Light"/>
              </a:rPr>
              <a:t>Key Framework</a:t>
            </a: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 Light"/>
              </a:rPr>
              <a:t>Question</a:t>
            </a: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 Light"/>
              </a:rPr>
              <a:t>f</a:t>
            </a:r>
            <a:r>
              <a:rPr b="0" i="1" lang="en-US" sz="4000" spc="-1" strike="noStrike">
                <a:solidFill>
                  <a:srgbClr val="606060"/>
                </a:solidFill>
                <a:latin typeface="Helvetica Neue Light"/>
              </a:rPr>
              <a:t>or future scientists</a:t>
            </a:r>
            <a:r>
              <a:rPr b="0" lang="en-US" sz="4000" spc="-1" strike="noStrike">
                <a:solidFill>
                  <a:srgbClr val="606060"/>
                </a:solidFill>
                <a:latin typeface="Helvetica Neue Light"/>
              </a:rPr>
              <a:t> who want to use/re-use my data</a:t>
            </a: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:    </a:t>
            </a:r>
            <a:r>
              <a:rPr b="0" i="1" lang="en-US" sz="4000" spc="-1" strike="noStrike" u="sng">
                <a:solidFill>
                  <a:srgbClr val="606060"/>
                </a:solidFill>
                <a:uFillTx/>
                <a:latin typeface="Helvetica Neue Light"/>
              </a:rPr>
              <a:t>what will they need to know?</a:t>
            </a:r>
            <a:r>
              <a:rPr b="0" lang="en-US" sz="4000" spc="-1" strike="noStrike">
                <a:solidFill>
                  <a:srgbClr val="606060"/>
                </a:solidFill>
                <a:latin typeface="Helvetica Neue Light"/>
              </a:rPr>
              <a:t> (= MD that I probably know best)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72" name="Rectangle 3" descr=""/>
          <p:cNvPicPr/>
          <p:nvPr/>
        </p:nvPicPr>
        <p:blipFill>
          <a:blip r:embed="rId1"/>
          <a:stretch/>
        </p:blipFill>
        <p:spPr>
          <a:xfrm>
            <a:off x="1015920" y="4572000"/>
            <a:ext cx="2362320" cy="160020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3683160" y="4479840"/>
            <a:ext cx="2438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 Light"/>
              </a:rPr>
              <a:t>Documentation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 including  restrictions on access &amp; use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2"/>
          <a:stretch/>
        </p:blipFill>
        <p:spPr>
          <a:xfrm>
            <a:off x="1015920" y="6324480"/>
            <a:ext cx="2362320" cy="196560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3683160" y="6248520"/>
            <a:ext cx="2743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Assumptions, hypotheses, algorithms about data (who, what, when, where, why &amp; how) = “</a:t>
            </a:r>
            <a:r>
              <a:rPr b="1" lang="en-US" sz="2000" spc="-1" strike="noStrike">
                <a:solidFill>
                  <a:srgbClr val="000000"/>
                </a:solidFill>
                <a:latin typeface="Helvetica Neue Light"/>
              </a:rPr>
              <a:t>provenance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 &amp; </a:t>
            </a:r>
            <a:r>
              <a:rPr b="1" lang="en-US" sz="2000" spc="-1" strike="noStrike">
                <a:solidFill>
                  <a:srgbClr val="000000"/>
                </a:solidFill>
                <a:latin typeface="Helvetica Neue Light"/>
              </a:rPr>
              <a:t>context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3"/>
          <a:stretch/>
        </p:blipFill>
        <p:spPr>
          <a:xfrm>
            <a:off x="6578640" y="4572000"/>
            <a:ext cx="1981080" cy="144792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8864640" y="4479840"/>
            <a:ext cx="3886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Sequence of time, date,  technical details of data creation / acquisition and relationships among data units or how to figure out = “</a:t>
            </a:r>
            <a:r>
              <a:rPr b="1" lang="en-US" sz="2000" spc="-1" strike="noStrike">
                <a:solidFill>
                  <a:srgbClr val="000000"/>
                </a:solidFill>
                <a:latin typeface="Helvetica Neue Light"/>
              </a:rPr>
              <a:t>preservation MD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4"/>
          <a:srcRect l="52542" t="37377" r="20806" b="31989"/>
          <a:stretch/>
        </p:blipFill>
        <p:spPr>
          <a:xfrm>
            <a:off x="6578640" y="63244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9016920" y="6248520"/>
            <a:ext cx="312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 Light"/>
              </a:rPr>
              <a:t>Key people, roles &amp; their organizations =  “</a:t>
            </a:r>
            <a:r>
              <a:rPr b="1" lang="en-US" sz="2000" spc="-1" strike="noStrike">
                <a:solidFill>
                  <a:srgbClr val="000000"/>
                </a:solidFill>
                <a:latin typeface="Helvetica Neue Light"/>
              </a:rPr>
              <a:t>citation MD”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71680" y="1371240"/>
            <a:ext cx="7454880" cy="609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What if I don’t have an existing archive for my data?  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58720" y="2437920"/>
            <a:ext cx="1186200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Some disciplines may not have a data center or archive set up for them – what resources are available?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Institutions with experience:  governmental agencies (UK Data Centers, UK Digital Curation Center, in US:  NASA, NOAA, USGS, NARA, Research Libraries, national &amp; international libraries, archives and data center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mprehensive information resources about preservation and archiving, e.g., CIESIN’s Geospatial Clearinghouse,  a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geopreservation.org/index.jsp;jsessionid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=7nV0TZhFPJc4b22zWbjn1J9p3LK9RR81fHhpGgM9gzJWYlQJJ690!480336224 US Library of Congress, etc.</a:t>
            </a: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, and Duraspace,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Helvetica Neue"/>
                <a:hlinkClick r:id="rId4"/>
              </a:rPr>
              <a:t>http://www.duraspace.org/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ataOne – NSF funded consortium, https://www.dataone.org/ focused upon preservation and access to multi-scale, multi-discipline, and multi-national science data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DataConservancy – an NSF funded consortium focused upon scientific data curation is a means to collect, organize, validate and preserve data, http://dataconservancy.org/ 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NASA Earth Science Data Preservation Content Specification (Nov 2011)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earthdata.nasa.gov/sites/default/files/field/document/NASA_ESD_Preservation_Spec.pdf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NASA, 2011:  Metadata Requirements – Base Reference for NASA Earth Science Data Products, (Nov 2011), http://earthdata.nasa.gov/sites/default/files/field/document/NASA%20ESD%20Base%20Metadata%20Requirements_V1_20110922_0.pdf</a:t>
            </a:r>
            <a:r>
              <a:rPr b="0" lang="en-US" sz="3500" spc="-1" strike="noStrike">
                <a:solidFill>
                  <a:srgbClr val="606060"/>
                </a:solidFill>
                <a:latin typeface="Helvetica Neue"/>
              </a:rPr>
              <a:t>  </a:t>
            </a:r>
            <a:endParaRPr b="0" lang="en-US" sz="35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Preliminary Principles and Guidelines for Archiving Environmental and Geospatial Data at NOAA:  Interim Report, http://www.nap.edu/catalog.php?record_id=11659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Archiving Strategy for USGS EROS Center &amp; Our Future Direction, March 29, 2010, http://ddp.nist.gov/workshop/ppts/01_07_John_Faundeen%20US_DPIF_NIST%20WS.pdf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Example disciplinary requirements:  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NOAA Workshop on Climate Data Records from Satellite Passive Microwave Sounders http://www.star.nesdis.noaa.gov/star/documents/meetings/CDR2011/NOAAWorkshopCDRsFinalReport.pdf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NOAA NCDC Climate Data Record ( CDR) Maturity Matrix, http://www1.ncdc.noaa.gov/pub/data/sds/cdrp-mtx-0008-v3.0-maturity-matrix.pdf 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ESIP Data Stewardship &amp; Preservation Cluster, wiki found at http://wiki.esipfed.org/index.php/Preservation_and_Stewardship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The case for data stewardship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Managing your 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Creating documentation and metadata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orking with your archive organiza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eservation strategies to pursue once the argument for data stewardship &amp; data preservation is w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Background of previous issues &amp; discussions re:  data stewardship &amp; data management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Provides a framework of questions that a scientist can answer to facilitate the preservation of his/her data for the long term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06060"/>
                </a:solidFill>
                <a:latin typeface="Helvetica Neue"/>
              </a:rPr>
              <a:t>Why is this important????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7" name=""/>
          <p:cNvSpPr/>
          <p:nvPr/>
        </p:nvSpPr>
        <p:spPr>
          <a:xfrm>
            <a:off x="1854360" y="5181480"/>
            <a:ext cx="990576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06060"/>
                </a:solidFill>
                <a:latin typeface="Helvetica Neue Light"/>
              </a:rPr>
              <a:t>As a metaphorical example,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06060"/>
                </a:solidFill>
                <a:latin typeface="Helvetica Neue Light"/>
              </a:rPr>
              <a:t>  </a:t>
            </a:r>
            <a:r>
              <a:rPr b="0" lang="en-US" sz="4200" spc="-1" strike="noStrike">
                <a:solidFill>
                  <a:srgbClr val="606060"/>
                </a:solidFill>
                <a:latin typeface="Helvetica Neue Light"/>
              </a:rPr>
              <a:t>consider the following situation: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4923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Documentation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 for My Latest Research Project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To Data Manager:</a:t>
            </a:r>
            <a:r>
              <a:rPr b="1" i="1" lang="en-US" sz="3000" spc="-1" strike="noStrike">
                <a:solidFill>
                  <a:srgbClr val="606060"/>
                </a:solidFill>
                <a:latin typeface="Helvetica Neue"/>
              </a:rPr>
              <a:t>  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06060"/>
                </a:solidFill>
                <a:latin typeface="Helvetica Neue"/>
              </a:rPr>
              <a:t>Don’t worry, the connections are all there [– in my head!]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50" name="Rectangle 3" descr=""/>
          <p:cNvPicPr/>
          <p:nvPr/>
        </p:nvPicPr>
        <p:blipFill>
          <a:blip r:embed="rId1"/>
          <a:stretch/>
        </p:blipFill>
        <p:spPr>
          <a:xfrm>
            <a:off x="4444920" y="2286000"/>
            <a:ext cx="79120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4923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Documentation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 for My Latest Research Project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To Data Manager:</a:t>
            </a:r>
            <a:r>
              <a:rPr b="1" i="1" lang="en-US" sz="3000" spc="-1" strike="noStrike">
                <a:solidFill>
                  <a:srgbClr val="606060"/>
                </a:solidFill>
                <a:latin typeface="Helvetica Neue"/>
              </a:rPr>
              <a:t>  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06060"/>
                </a:solidFill>
                <a:latin typeface="Helvetica Neue"/>
              </a:rPr>
              <a:t>See, here’s the primary algorithm I used…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53" name="Rectangle 3" descr=""/>
          <p:cNvPicPr/>
          <p:nvPr/>
        </p:nvPicPr>
        <p:blipFill>
          <a:blip r:embed="rId1"/>
          <a:stretch/>
        </p:blipFill>
        <p:spPr>
          <a:xfrm>
            <a:off x="4978440" y="2286000"/>
            <a:ext cx="745488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4923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Documentation</a:t>
            </a:r>
            <a:r>
              <a:rPr b="0" lang="en-US" sz="3000" spc="-1" strike="noStrike">
                <a:solidFill>
                  <a:srgbClr val="606060"/>
                </a:solidFill>
                <a:latin typeface="Helvetica Neue"/>
              </a:rPr>
              <a:t> for My Latest Research Project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To Data Manager:</a:t>
            </a:r>
            <a:r>
              <a:rPr b="1" i="1" lang="en-US" sz="3000" spc="-1" strike="noStrike">
                <a:solidFill>
                  <a:srgbClr val="606060"/>
                </a:solidFill>
                <a:latin typeface="Helvetica Neue"/>
              </a:rPr>
              <a:t>  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06060"/>
                </a:solidFill>
                <a:latin typeface="Helvetica Neue"/>
              </a:rPr>
              <a:t>Here’s the schedule we used to gather the data – although some months it was a little different…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56" name="Rectangle 3" descr=""/>
          <p:cNvPicPr/>
          <p:nvPr/>
        </p:nvPicPr>
        <p:blipFill>
          <a:blip r:embed="rId1"/>
          <a:stretch/>
        </p:blipFill>
        <p:spPr>
          <a:xfrm>
            <a:off x="5054760" y="2362320"/>
            <a:ext cx="737856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4923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06060"/>
                </a:solidFill>
                <a:latin typeface="Helvetica Neue"/>
              </a:rPr>
              <a:t>Documentation</a:t>
            </a:r>
            <a:r>
              <a:rPr b="0" lang="en-US" sz="2100" spc="-1" strike="noStrike">
                <a:solidFill>
                  <a:srgbClr val="606060"/>
                </a:solidFill>
                <a:latin typeface="Helvetica Neue"/>
              </a:rPr>
              <a:t> for My Latest Research Project</a:t>
            </a:r>
            <a:endParaRPr b="0" lang="en-US" sz="21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06060"/>
                </a:solidFill>
                <a:latin typeface="Helvetica Neue"/>
              </a:rPr>
              <a:t>To Data Manager:</a:t>
            </a:r>
            <a:r>
              <a:rPr b="1" i="1" lang="en-US" sz="2100" spc="-1" strike="noStrike">
                <a:solidFill>
                  <a:srgbClr val="606060"/>
                </a:solidFill>
                <a:latin typeface="Helvetica Neue"/>
              </a:rPr>
              <a:t>  </a:t>
            </a:r>
            <a:endParaRPr b="0" lang="en-US" sz="21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606060"/>
                </a:solidFill>
                <a:latin typeface="Helvetica Neue"/>
              </a:rPr>
              <a:t>Oh, and here’s the team – our PI wasn’t available for the photo, so we put a placeholder for him – see the guy with the mustache below on the stick?   And the project manager – she’s the one with the long ears…what was her name?</a:t>
            </a:r>
            <a:endParaRPr b="0" lang="en-US" sz="21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59" name="Rectangle 3" descr=""/>
          <p:cNvPicPr/>
          <p:nvPr/>
        </p:nvPicPr>
        <p:blipFill>
          <a:blip r:embed="rId1"/>
          <a:srcRect l="52542" t="37377" r="20806" b="31989"/>
          <a:stretch/>
        </p:blipFill>
        <p:spPr>
          <a:xfrm>
            <a:off x="5283360" y="2440080"/>
            <a:ext cx="7391160" cy="678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levance to Data Managemen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06060"/>
                </a:solidFill>
                <a:latin typeface="Helvetica Neue"/>
              </a:rPr>
              <a:t>So, what’s the Data Manager gonna do with all this stuff??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06060"/>
                </a:solidFill>
                <a:latin typeface="Helvetica Neue"/>
              </a:rPr>
              <a:t>Ensure long term integrity &amp; viability of your data incl.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arious levels of processed data / data products, if desired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Metadata (MD) you have (in your head or in documentation)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Context &amp; Provenance – “audit” trail of sources, processing, products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06060"/>
                </a:solidFill>
                <a:latin typeface="Helvetica Neue"/>
              </a:rPr>
              <a:t>By ingesting, identifying, storing, locating &amp; providing access, if desired, to all of the above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578280" y="2324160"/>
            <a:ext cx="585468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06060"/>
                </a:solidFill>
                <a:latin typeface="Helvetica Neue"/>
              </a:rPr>
              <a:t>Deploy preservation strategies such as: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06060"/>
                </a:solidFill>
                <a:latin typeface="Helvetica Neue"/>
              </a:rPr>
              <a:t>Assigning checksums and/or identifiers to each “item” of a data set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06060"/>
                </a:solidFill>
                <a:latin typeface="Helvetica Neue"/>
              </a:rPr>
              <a:t>Migrating to non-proprietary and/or new formats over time 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06060"/>
                </a:solidFill>
                <a:latin typeface="Helvetica Neue"/>
              </a:rPr>
              <a:t>Migrating to new storage media over time 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06060"/>
                </a:solidFill>
                <a:latin typeface="Helvetica Neue"/>
              </a:rPr>
              <a:t>Refreshing the data over time</a:t>
            </a:r>
            <a:endParaRPr b="0" lang="en-US" sz="30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How can I (the scientist) help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902120" y="2324160"/>
            <a:ext cx="753120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Besides me, who’s going to care? 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Sponsor mandates to archive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Specific requirements from sponsor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0936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e.g., NASA, NOAA, USGS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Data archive requirements &amp; desirement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0936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Negotiated &amp; documented in Submission Information Package (OAIS SIP)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Future scientists who want to use/re-use your data!!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marL="2638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What kind of data should be kept?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Formulae for decisionmaking, e.g., 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2" marL="10936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NOAA National Climatic Data Center’s Climate Data Record Maturity Matrix;  factors include </a:t>
            </a:r>
            <a:r>
              <a:rPr b="0" i="1" lang="en-US" sz="1800" spc="-1" strike="noStrike">
                <a:solidFill>
                  <a:srgbClr val="606060"/>
                </a:solidFill>
                <a:latin typeface="Helvetica Neue"/>
              </a:rPr>
              <a:t>software readiness, existence / state of metadata &amp; (other) documentation, utility of data, validity of product (based on certainty estimates), desire for / restrictions upon public access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2" marL="1093680" indent="-26388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6060"/>
                </a:solidFill>
                <a:latin typeface="Helvetica Neue"/>
              </a:rPr>
              <a:t>Documentation of specific disciplinary requirements, e.g., CDRs from Satellite Passive Microwave Sounders</a:t>
            </a:r>
            <a:endParaRPr b="0" lang="en-US" sz="18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-26352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Allowing for serendipity &amp; cyclical nature of scientific data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53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65" name="Rectangle 3" descr=""/>
          <p:cNvPicPr/>
          <p:nvPr/>
        </p:nvPicPr>
        <p:blipFill>
          <a:blip r:embed="rId1"/>
          <a:stretch/>
        </p:blipFill>
        <p:spPr>
          <a:xfrm>
            <a:off x="863640" y="4495680"/>
            <a:ext cx="3651120" cy="377532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>
            <a:off x="406440" y="2590920"/>
            <a:ext cx="35812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Helvetica Neue Light"/>
              </a:rPr>
              <a:t>Framework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 Questions:   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Nancy Hoebelheinrich</cp:lastModifiedBy>
  <dcterms:modified xsi:type="dcterms:W3CDTF">2011-12-04T19:50:38Z</dcterms:modified>
  <cp:revision>61</cp:revision>
  <dc:subject/>
  <dc:title>ESIP Federation 101</dc:title>
</cp:coreProperties>
</file>